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gif" ContentType="image/gif"/>
  <Override PartName="/ppt/media/image3.jpeg" ContentType="image/jpeg"/>
  <Override PartName="/ppt/media/image9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36D-7EF3-4D4D-90C0-5CFEB910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DF7-5824-4E77-AFFE-2A25727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964-AF1D-4586-885A-BB56DB30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38B-6E38-40B2-B89B-5B03A181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4223-A32F-4EF2-AA1A-FDA0ED45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7EA7-F193-4D57-81BB-A01E19E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AE0D-C0DC-48BD-9CEB-FCF668D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AA1-C4E0-4C78-B1C9-12F575BF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3221-FD72-45C5-94D9-7C04BCB5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3D6-865C-4731-B1D6-27C643C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62A-2137-4AF6-8966-44EB8CC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9BB-68DC-4258-9B59-F8B4001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1AE4-A182-4710-8E0D-32C65A3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416E-2291-4B5A-8D69-2912EAA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495-8F3C-4137-9368-AD2737F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6E5D-97E2-435D-8183-F6863760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B91D-814C-44DD-BB88-0E38290C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A81-136E-4EC3-BD49-41AE8D32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791-6712-4A03-8418-06D92AF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9D8-30BF-49D1-8EA5-C55DDFF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48D-0F56-4477-9D90-06F4A48F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A65-8B6C-4F79-8120-954D0A1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3EA-64F7-40BC-B013-D305545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F36-8D6F-4E8C-9A29-0488831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D43-61CE-4C91-8810-0967367C1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7DA-2348-436B-B0FC-EA5AB849B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-274680" y="-146160"/>
            <a:ext cx="9272520" cy="2670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962160" y="1447560"/>
            <a:ext cx="4724280" cy="24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gy Educat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Mrs.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ackgr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i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3600"/>
            </a:b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ie</a:t>
            </a: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PowerPo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Program Files\Microsoft Office\MEDIA\CAGCAT10\j0234687.gif"/>
          <p:cNvPicPr/>
          <p:nvPr/>
        </p:nvPicPr>
        <p:blipFill>
          <a:blip r:embed="rId1"/>
          <a:stretch/>
        </p:blipFill>
        <p:spPr>
          <a:xfrm>
            <a:off x="3957480" y="3067200"/>
            <a:ext cx="4883400" cy="2876400"/>
          </a:xfrm>
          <a:prstGeom prst="rect">
            <a:avLst/>
          </a:prstGeom>
          <a:ln w="0">
            <a:noFill/>
          </a:ln>
        </p:spPr>
      </p:pic>
      <p:pic>
        <p:nvPicPr>
          <p:cNvPr id="179" name="j0214098.wav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Microsoft Publisher docu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1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j0238147"/>
          <p:cNvPicPr/>
          <p:nvPr/>
        </p:nvPicPr>
        <p:blipFill>
          <a:blip r:embed="rId3"/>
          <a:stretch/>
        </p:blipFill>
        <p:spPr>
          <a:xfrm>
            <a:off x="5029200" y="838080"/>
            <a:ext cx="254952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ave and retrieve information appropriately from personal folder or web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0285456"/>
          <p:cNvPicPr/>
          <p:nvPr/>
        </p:nvPicPr>
        <p:blipFill>
          <a:blip r:embed="rId2"/>
          <a:stretch/>
        </p:blipFill>
        <p:spPr>
          <a:xfrm>
            <a:off x="3809880" y="30492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 and reinforce basic Internet skills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336699"/>
                </a:solidFill>
                <a:latin typeface="Times New Roman"/>
              </a:rPr>
              <a:t>Learn about search engines on the Internet to narrow down a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858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h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743200" y="533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7432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4771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j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095880" y="4343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g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Investigate the validity of information presented in Web sit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ite references from electronic sourc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453320" y="2743200"/>
            <a:ext cx="59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zel Bi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bish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335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191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1722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D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14600" y="4038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ne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76520" y="2209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54344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3352680" y="35049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3505320" y="457200"/>
            <a:ext cx="5638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unicate &amp; collaborate using free downloadable software and web 2.0 tools when appropriate to enhance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22257" t="46875" r="42020" b="41668"/>
          <a:stretch/>
        </p:blipFill>
        <p:spPr>
          <a:xfrm>
            <a:off x="1828800" y="1752480"/>
            <a:ext cx="4648320" cy="83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rcRect l="22257" t="61462" r="71891" b="21875"/>
          <a:stretch/>
        </p:blipFill>
        <p:spPr>
          <a:xfrm>
            <a:off x="228600" y="3200400"/>
            <a:ext cx="2133720" cy="34131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9"/>
          <p:cNvSpPr/>
          <p:nvPr/>
        </p:nvSpPr>
        <p:spPr>
          <a:xfrm>
            <a:off x="3581280" y="3505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685800" y="228600"/>
            <a:ext cx="6400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cratch Anim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ttp://scratch.MI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http://mrspmartin.wikispaces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rcRect l="343" t="42712" r="80090" b="43858"/>
          <a:stretch/>
        </p:blipFill>
        <p:spPr>
          <a:xfrm>
            <a:off x="1219320" y="0"/>
            <a:ext cx="4343400" cy="1676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1762200" y="1981080"/>
            <a:ext cx="33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udacity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rcRect l="0" t="0" r="0" b="5281"/>
          <a:stretch/>
        </p:blipFill>
        <p:spPr>
          <a:xfrm>
            <a:off x="304920" y="2530440"/>
            <a:ext cx="88390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0" y="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ee"/>
                </a:solidFill>
                <a:latin typeface="Arial"/>
              </a:rPr>
              <a:t>Goog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virtual 3 D map of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ttp://www.google.com/earth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0" t="0" r="5467" b="15627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04920" y="762120"/>
            <a:ext cx="723888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“Real Time” Discu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todaysmeet.co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ttp://www.todaysmeet.com/parent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allwisher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knowledge gained from these objectives will be used in student created projects and presentations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viously reviewed in clas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0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The following objectives will be covered this year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336699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4" name="j0289582.jpg" descr=""/>
          <p:cNvPicPr/>
          <p:nvPr/>
        </p:nvPicPr>
        <p:blipFill>
          <a:blip r:embed="rId1"/>
          <a:stretch/>
        </p:blipFill>
        <p:spPr>
          <a:xfrm>
            <a:off x="4489560" y="3808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Type, edit, spell-check, format, save, and print a Microsoft Word processing document following specific written direction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bbons will be explored and mastered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Picture 4" descr="MCj02325870000[1]"/>
          <p:cNvPicPr/>
          <p:nvPr/>
        </p:nvPicPr>
        <p:blipFill>
          <a:blip r:embed="rId1"/>
          <a:stretch/>
        </p:blipFill>
        <p:spPr>
          <a:xfrm>
            <a:off x="2666880" y="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a Microsoft Excel spreadsheet entering valu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bels, 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formulas, and creating a graph from data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3809880" y="3200400"/>
          <a:ext cx="4591080" cy="25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200400"/>
                    <a:ext cx="4591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 a Microsoft Access database</a:t>
            </a: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15627" r="39064" b="25004"/>
          <a:stretch/>
        </p:blipFill>
        <p:spPr>
          <a:xfrm>
            <a:off x="3048120" y="129528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0" y="1523880"/>
            <a:ext cx="335268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reate repo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Picture 4" descr="j0232092"/>
          <p:cNvPicPr/>
          <p:nvPr/>
        </p:nvPicPr>
        <p:blipFill>
          <a:blip r:embed="rId1"/>
          <a:stretch/>
        </p:blipFill>
        <p:spPr>
          <a:xfrm>
            <a:off x="3733920" y="380988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37:39Z</dcterms:created>
  <dc:creator>Patricia O Martin</dc:creator>
  <dc:description/>
  <dc:language>en-US</dc:language>
  <cp:lastModifiedBy>Patricia Martin</cp:lastModifiedBy>
  <dcterms:modified xsi:type="dcterms:W3CDTF">2012-08-19T21:48:05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51033</vt:lpwstr>
  </property>
</Properties>
</file>